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4A3-B5B1-4CE0-A419-735133BB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F2E-3B02-4869-AC8F-CAEE462A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F17-87A4-4AAF-B279-29B630DD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BD3-8581-4851-9606-477991FC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FFA-E537-4E8F-A1A0-2F81DC17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B71-659E-4D17-ADD0-8C7CF25A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5C1-0E59-4784-B639-B0671CF0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479-E550-4D20-88B9-CA5B3314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0B1-B6FE-4AC8-AEA3-824B5585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212-3143-4C32-85E5-8C3A0DF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89F-4D2C-42CD-ACB6-5D00DED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59B-B130-4E51-BB0E-1D92116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287B-D65A-4AEF-9716-1024C91FE2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Languages_-_a_revolution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int.org/features/2014/06/01/keynote-minority-language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63760" y="1052640"/>
            <a:ext cx="548496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Quiz about minority languag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17604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1200" y="260280"/>
            <a:ext cx="2975040" cy="525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63760" y="5370480"/>
            <a:ext cx="59007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you think?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country is Galicia part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France / Spain /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How many people in the world speak Galici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.5 million / 2,500 / 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 How many years have Aborigines lived in Australia? 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 500,000 / 50,000 / 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. What % of US drugs come from native remedies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80% / 50% /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. How many years ago did humans first start using languag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,500,000 / 150,000 / 1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456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. About how many languages are there now in the world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0 / 700 /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. How many languages do linguists think we could have in 100 years?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600 / 60 /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. When did French become the standard language of Franc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4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6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8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9. How many people speak Sami (from Scandinavia / Russia)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00,000 / 20,000 / 2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. How many official local languages are there in Zambia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 / 70 /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 this to find the answer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Languages_-_a_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762200" y="2781360"/>
            <a:ext cx="5619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Key: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5 mi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7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7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8. 18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9. 2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0. 7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Now read the original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features/2014/06/01/keynote-minority-langu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33320" y="5013360"/>
            <a:ext cx="2697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8T09:44:50Z</dcterms:created>
  <dc:creator>Linda Ruas</dc:creator>
  <dc:description/>
  <dc:language>en-US</dc:language>
  <cp:lastModifiedBy>Linda Ruas</cp:lastModifiedBy>
  <dcterms:modified xsi:type="dcterms:W3CDTF">2014-06-08T11:47:25Z</dcterms:modified>
  <cp:revision>6</cp:revision>
  <dc:subject/>
  <dc:title>Quiz about minority languages</dc:title>
</cp:coreProperties>
</file>